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852360" y="0"/>
            <a:ext cx="294660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915840" y="744120"/>
            <a:ext cx="4967280" cy="3724200"/>
          </a:xfrm>
          <a:prstGeom prst="rect">
            <a:avLst/>
          </a:prstGeom>
          <a:noFill/>
          <a:ln w="9360">
            <a:solidFill>
              <a:srgbClr val="000000"/>
            </a:solidFill>
            <a:miter/>
          </a:ln>
        </p:spPr>
        <p:txBody>
          <a:bodyPr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906120" y="4717800"/>
            <a:ext cx="49863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3080"/>
            <a:ext cx="2946240" cy="496800"/>
          </a:xfrm>
          <a:prstGeom prst="rect">
            <a:avLst/>
          </a:prstGeom>
          <a:noFill/>
          <a:ln w="0">
            <a:noFill/>
          </a:ln>
        </p:spPr>
        <p:txBody>
          <a:bodyPr lIns="95400" rIns="95400" tIns="47880" bIns="4788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852360" y="9433080"/>
            <a:ext cx="294660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DD95F83-CAE7-4C3B-9FAE-035611AA1A2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7280" cy="3724200"/>
          </a:xfrm>
          <a:prstGeom prst="rect">
            <a:avLst/>
          </a:prstGeom>
          <a:ln w="0">
            <a:noFill/>
          </a:ln>
        </p:spPr>
      </p:sp>
      <p:sp>
        <p:nvSpPr>
          <p:cNvPr id="17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6108CB4-D050-448A-ADE2-2189468E66A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7280" cy="3724200"/>
          </a:xfrm>
          <a:prstGeom prst="rect">
            <a:avLst/>
          </a:prstGeom>
          <a:ln w="0">
            <a:noFill/>
          </a:ln>
        </p:spPr>
      </p:sp>
      <p:sp>
        <p:nvSpPr>
          <p:cNvPr id="174"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981A48A-A045-4B1F-8F87-874FC5D8F79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7280" cy="3724200"/>
          </a:xfrm>
          <a:prstGeom prst="rect">
            <a:avLst/>
          </a:prstGeom>
          <a:ln w="0">
            <a:noFill/>
          </a:ln>
        </p:spPr>
      </p:sp>
      <p:sp>
        <p:nvSpPr>
          <p:cNvPr id="17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E55DC06-0A66-4449-95C3-EBE6BA70E30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7280" cy="3724200"/>
          </a:xfrm>
          <a:prstGeom prst="rect">
            <a:avLst/>
          </a:prstGeom>
          <a:ln w="0">
            <a:noFill/>
          </a:ln>
        </p:spPr>
      </p:sp>
      <p:sp>
        <p:nvSpPr>
          <p:cNvPr id="18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EF1E5DC-772A-4A8B-AEAD-4B6C34D6A09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7280" cy="3724200"/>
          </a:xfrm>
          <a:prstGeom prst="rect">
            <a:avLst/>
          </a:prstGeom>
          <a:ln w="0">
            <a:noFill/>
          </a:ln>
        </p:spPr>
      </p:sp>
      <p:sp>
        <p:nvSpPr>
          <p:cNvPr id="18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498AB31-7E59-4AB9-BD0D-AA9C117EBB2F}"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7280" cy="3724200"/>
          </a:xfrm>
          <a:prstGeom prst="rect">
            <a:avLst/>
          </a:prstGeom>
          <a:ln w="0">
            <a:noFill/>
          </a:ln>
        </p:spPr>
      </p:sp>
      <p:sp>
        <p:nvSpPr>
          <p:cNvPr id="18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94F2822-AB44-4E2D-8399-38FC86CCE32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7280" cy="3724200"/>
          </a:xfrm>
          <a:prstGeom prst="rect">
            <a:avLst/>
          </a:prstGeom>
          <a:ln w="0">
            <a:noFill/>
          </a:ln>
        </p:spPr>
      </p:sp>
      <p:sp>
        <p:nvSpPr>
          <p:cNvPr id="18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B7CE441-E5BB-4CF5-9FB7-6F94BD9F531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7280" cy="3724200"/>
          </a:xfrm>
          <a:prstGeom prst="rect">
            <a:avLst/>
          </a:prstGeom>
          <a:ln w="0">
            <a:noFill/>
          </a:ln>
        </p:spPr>
      </p:sp>
      <p:sp>
        <p:nvSpPr>
          <p:cNvPr id="19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0BBEDE0-0845-44FD-8EA6-534E094C457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7280" cy="3724200"/>
          </a:xfrm>
          <a:prstGeom prst="rect">
            <a:avLst/>
          </a:prstGeom>
          <a:ln w="0">
            <a:noFill/>
          </a:ln>
        </p:spPr>
      </p:sp>
      <p:sp>
        <p:nvSpPr>
          <p:cNvPr id="19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20CD961-8731-435B-91BD-B9EA1BDFD7E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7280" cy="3724200"/>
          </a:xfrm>
          <a:prstGeom prst="rect">
            <a:avLst/>
          </a:prstGeom>
          <a:ln w="0">
            <a:noFill/>
          </a:ln>
        </p:spPr>
      </p:sp>
      <p:sp>
        <p:nvSpPr>
          <p:cNvPr id="19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F473C41-DE84-4930-AD77-E9F6FE72C8A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7280" cy="3724200"/>
          </a:xfrm>
          <a:prstGeom prst="rect">
            <a:avLst/>
          </a:prstGeom>
          <a:ln w="0">
            <a:noFill/>
          </a:ln>
        </p:spPr>
      </p:sp>
      <p:sp>
        <p:nvSpPr>
          <p:cNvPr id="14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550C261-CD82-4A17-8A0A-29106035B92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7280" cy="3724200"/>
          </a:xfrm>
          <a:prstGeom prst="rect">
            <a:avLst/>
          </a:prstGeom>
          <a:ln w="0">
            <a:noFill/>
          </a:ln>
        </p:spPr>
      </p:sp>
      <p:sp>
        <p:nvSpPr>
          <p:cNvPr id="20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95261E4-BCE4-43F3-9139-63560C8B3B95}"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4480"/>
            <a:ext cx="4967280" cy="3724200"/>
          </a:xfrm>
          <a:prstGeom prst="rect">
            <a:avLst/>
          </a:prstGeom>
          <a:ln w="0">
            <a:noFill/>
          </a:ln>
        </p:spPr>
      </p:sp>
      <p:sp>
        <p:nvSpPr>
          <p:cNvPr id="15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F8C607A-53A6-4D81-85C3-0FA202C8331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7280" cy="3724200"/>
          </a:xfrm>
          <a:prstGeom prst="rect">
            <a:avLst/>
          </a:prstGeom>
          <a:ln w="0">
            <a:noFill/>
          </a:ln>
        </p:spPr>
      </p:sp>
      <p:sp>
        <p:nvSpPr>
          <p:cNvPr id="15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B34444F-53CE-47C9-98C8-59F0E20DCA13}"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5840" y="744480"/>
            <a:ext cx="4967280" cy="3724200"/>
          </a:xfrm>
          <a:prstGeom prst="rect">
            <a:avLst/>
          </a:prstGeom>
          <a:ln w="0">
            <a:noFill/>
          </a:ln>
        </p:spPr>
      </p:sp>
      <p:sp>
        <p:nvSpPr>
          <p:cNvPr id="15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066B7BC-9CEA-4A4B-A913-3C54519E49B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7280" cy="3724200"/>
          </a:xfrm>
          <a:prstGeom prst="rect">
            <a:avLst/>
          </a:prstGeom>
          <a:ln w="0">
            <a:noFill/>
          </a:ln>
        </p:spPr>
      </p:sp>
      <p:sp>
        <p:nvSpPr>
          <p:cNvPr id="15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9B9F719-94B4-480E-BFA9-04F157156F2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7280" cy="3724200"/>
          </a:xfrm>
          <a:prstGeom prst="rect">
            <a:avLst/>
          </a:prstGeom>
          <a:ln w="0">
            <a:noFill/>
          </a:ln>
        </p:spPr>
      </p:sp>
      <p:sp>
        <p:nvSpPr>
          <p:cNvPr id="16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E295497-AE5F-4A23-AE0F-907CAE351485}"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7280" cy="3724200"/>
          </a:xfrm>
          <a:prstGeom prst="rect">
            <a:avLst/>
          </a:prstGeom>
          <a:ln w="0">
            <a:noFill/>
          </a:ln>
        </p:spPr>
      </p:sp>
      <p:sp>
        <p:nvSpPr>
          <p:cNvPr id="16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6C86F28-021C-49A7-8F28-DCDC3648462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7280" cy="3724200"/>
          </a:xfrm>
          <a:prstGeom prst="rect">
            <a:avLst/>
          </a:prstGeom>
          <a:ln w="0">
            <a:noFill/>
          </a:ln>
        </p:spPr>
      </p:sp>
      <p:sp>
        <p:nvSpPr>
          <p:cNvPr id="16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60C247D-E4EB-446A-8996-9716E82CAD4F}"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D2E4-FBBA-435F-8DC9-74E001574E7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lnSpc>
                <a:spcPct val="100000"/>
              </a:lnSpc>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br>
              <a:rPr sz="3200"/>
            </a:br>
            <a:r>
              <a:rPr b="1" i="1" lang="fr-FR" sz="3200" spc="-1" strike="noStrike">
                <a:solidFill>
                  <a:srgbClr val="7ab800"/>
                </a:solidFill>
                <a:latin typeface="Calibri"/>
              </a:rPr>
              <a:t> </a:t>
            </a:r>
            <a:endParaRPr b="1" lang="en-US" sz="3200" spc="-1" strike="noStrike">
              <a:solidFill>
                <a:srgbClr val="7ab800"/>
              </a:solidFill>
              <a:latin typeface="Arial"/>
            </a:endParaRPr>
          </a:p>
        </p:txBody>
      </p:sp>
      <p:sp>
        <p:nvSpPr>
          <p:cNvPr id="87" name=""/>
          <p:cNvSpPr txBox="1"/>
          <p:nvPr/>
        </p:nvSpPr>
        <p:spPr>
          <a:xfrm>
            <a:off x="899640" y="1844280"/>
            <a:ext cx="7559640" cy="381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2228b"/>
                </a:solidFill>
                <a:latin typeface="Arial"/>
              </a:rPr>
              <a:t>Conférence de territoire de Seine et Mar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Santé mental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Propositions du Bureau</a:t>
            </a:r>
            <a:endParaRPr b="0" lang="en-US" sz="3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2d050"/>
                </a:solidFill>
                <a:latin typeface="Arial"/>
              </a:rPr>
              <a:t>07 octobre 2014</a:t>
            </a:r>
            <a:endParaRPr b="0" lang="en-US" sz="2000" spc="-1" strike="noStrike">
              <a:solidFill>
                <a:srgbClr val="000000"/>
              </a:solidFill>
              <a:latin typeface="Arial"/>
            </a:endParaRPr>
          </a:p>
        </p:txBody>
      </p:sp>
      <p:pic>
        <p:nvPicPr>
          <p:cNvPr id="88" name="Image 6" descr="Logo ARS.png"/>
          <p:cNvPicPr/>
          <p:nvPr/>
        </p:nvPicPr>
        <p:blipFill>
          <a:blip r:embed="rId2"/>
          <a:stretch/>
        </p:blipFill>
        <p:spPr>
          <a:xfrm>
            <a:off x="179280" y="115920"/>
            <a:ext cx="1944720" cy="981000"/>
          </a:xfrm>
          <a:prstGeom prst="rect">
            <a:avLst/>
          </a:prstGeom>
          <a:ln w="0">
            <a:noFill/>
          </a:ln>
        </p:spPr>
      </p:pic>
      <p:sp>
        <p:nvSpPr>
          <p:cNvPr id="89" name="Connecteur droit 6"/>
          <p:cNvSpPr/>
          <p:nvPr/>
        </p:nvSpPr>
        <p:spPr>
          <a:xfrm flipV="1">
            <a:off x="50760" y="985680"/>
            <a:ext cx="9031320" cy="20880"/>
          </a:xfrm>
          <a:prstGeom prst="line">
            <a:avLst/>
          </a:prstGeom>
          <a:ln w="0">
            <a:noFill/>
          </a:ln>
        </p:spPr>
        <p:style>
          <a:lnRef idx="0"/>
          <a:fillRef idx="0"/>
          <a:effectRef idx="0"/>
          <a:fontRef idx="minor"/>
        </p:style>
        <p:txBody>
          <a:bodyPr lIns="90000" rIns="90000" tIns="-25920" bIns="-25920" anchor="t">
            <a:noAutofit/>
          </a:bodyPr>
          <a:p>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de Conseils Locaux de Santé Ment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u Centre Collaborateur OMS de Lill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Dr ROELANDT, Directeur / Mme GUEZENNEC, Chargée de Mission</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 Qu’est-ce qu’un Conseil Local de Santé Mentale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Qui fédère-t-il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Comment fonctionne-t-il et quelle est son activité ? »</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Témoignag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LSM de Nemours</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e l’ARS</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Mme </a:t>
            </a:r>
            <a:r>
              <a:rPr b="1" lang="fr-FR" sz="2000" spc="-1" strike="noStrike">
                <a:solidFill>
                  <a:srgbClr val="002395"/>
                </a:solidFill>
                <a:latin typeface="Arial"/>
              </a:rPr>
              <a:t>Pilar ARCELLA-GIRAUX</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a place des CLSM dans les orientations de l’ARS Ile-de-France en santé mentale.</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adre du soutien de l’ARS aux CLSM</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progressive de six Conseils Locaux de Santé Mentale, basés sur les territoires d’intervention des six hôpitaux disposant d’un secteur de psychiatrie génér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pic>
        <p:nvPicPr>
          <p:cNvPr id="130" name="Picture 5" descr=""/>
          <p:cNvPicPr/>
          <p:nvPr/>
        </p:nvPicPr>
        <p:blipFill>
          <a:blip r:embed="rId1"/>
          <a:stretch/>
        </p:blipFill>
        <p:spPr>
          <a:xfrm>
            <a:off x="2411280" y="0"/>
            <a:ext cx="4241880" cy="609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3"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une généralisation sur tout le territoire, et une couverture intégrale de la population</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la prise en compte de tous les types de public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capacité à agir sur tous les leviers : coordination sur les situations individuelles, prévention, mise en place de parcours de prise en charge, etc.</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facilite l’implication des psychiatres hospitaliers en évitant la multiplication des instanc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de fonctionnement éprouvé, comparable entre territoires et au-delà de la Seine-et-Marne au sein d’un réseau national, et dont la mise en place peut bénéficier de l’appui méthodologique du Centre Collaborateur OMS de Lil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qui permet de répondre à l’appel à projets de l’ARS pour co-financer et professionnaliser l’animat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relative cohérence avec les territoires d’intervention sociale (Maisons Départementales des Solidarité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Méthodologie proposée pour la création des CLSM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Initier la création de deux nouveaux CLSM par an de 2014 à 2016</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ettre en place un groupe projet s’appuyant notamment sur l’ARS, le CC OMS de Lille, le Département, les responsables de secteurs psychiatriques, l’UNAFAM, et chargé de mobiliser progressivement les autres acteu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s travaux de la Conférence de Territoire en 2012 ont mis en évidence le besoin de </a:t>
            </a:r>
            <a:r>
              <a:rPr b="1" lang="fr-FR" sz="2400" spc="-1" strike="noStrike">
                <a:solidFill>
                  <a:srgbClr val="262699"/>
                </a:solidFill>
                <a:latin typeface="Arial"/>
              </a:rPr>
              <a:t>favoriser la coordination entre les acteurs sanitaires, médico-sociaux, sociaux de la santé mentale.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développement des instances de type Conseil Local de Santé Mental avait été souhaité</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0" lang="fr-FR" sz="2400" spc="-1" strike="noStrike">
                <a:solidFill>
                  <a:srgbClr val="262699"/>
                </a:solidFill>
                <a:latin typeface="Arial"/>
              </a:rPr>
              <a:t>Certains participants avaient exprimé le souhait de mettre en place un espace départemental permanent de concertation pour poursuivre cette réflex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roposition de territoires d’expérimenta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mours, en raison de l’existence d’un CLSM sur la commun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arne-la-Vallée, afin d’expérimenter sur un second territoire du nord et plus urbai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Plan national Psychiatrie Santé Mentale suggère une organisation de la gouvernance de la santé mentale autour de trois niveaux :</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a région</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1" lang="fr-FR" sz="2400" spc="-1" strike="noStrike">
                <a:solidFill>
                  <a:srgbClr val="262699"/>
                </a:solidFill>
                <a:latin typeface="Arial"/>
              </a:rPr>
              <a:t>le territoire / le département</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1" lang="fr-FR" sz="2400" spc="-1" strike="noStrike">
                <a:solidFill>
                  <a:srgbClr val="262699"/>
                </a:solidFill>
                <a:latin typeface="Arial"/>
              </a:rPr>
              <a:t>le secteur</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En Seine-et-Marne, de multiples initiatives sont prises par des acteurs locaux (Coulommiers, Nemours, Pontault-Combault, Mitry-Mory, Roissy-en-Brie, etc.) pour instaurer une coordination entre acteurs. Ces initiatives sont positives, mai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ont souvent prises à un niveau géographique (communal, intercommunal) qui n’est pas généralisable à cette échelle pour couvrir toute la population départementa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adressent parfois à un public très ciblé (adolescents, usagers en situation précaire, etc.) et ne couvrent donc pas tous les publics d’un territoire donné</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0"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101"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De plus ces initiative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sont souvent expérimentales dans leurs modes de fonctionnement, et peuvent difficilement se comparer / se coordonner entre ell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 répondent pas toujours aux définitions des CLSM permettant à l’ARS de les traiter dans le cadre d’un appel à projet, et doivent donc fonctionner avec des moyens d’animation limité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ur grand nombre ne facilite pas l’implication des acteurs sanitaires, notamment les psychiatres hospitalie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3"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4"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1 :</a:t>
            </a:r>
            <a:r>
              <a:rPr b="0" lang="fr-FR" sz="2800" spc="-1" strike="noStrike">
                <a:solidFill>
                  <a:srgbClr val="262699"/>
                </a:solidFill>
                <a:latin typeface="Arial"/>
              </a:rPr>
              <a:t> Mettre en place une commission permanente santé mentale auprès de la Conférence de Territoir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6"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7"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Objet de cette commission permanente :</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a:t>
            </a:r>
            <a:r>
              <a:rPr b="1" lang="fr-FR" sz="1800" spc="-1" strike="noStrike">
                <a:solidFill>
                  <a:srgbClr val="262699"/>
                </a:solidFill>
                <a:latin typeface="Arial"/>
              </a:rPr>
              <a:t>espace permanent de dialogue et de coordination</a:t>
            </a:r>
            <a:r>
              <a:rPr b="0" lang="fr-FR" sz="1800" spc="-1" strike="noStrike">
                <a:solidFill>
                  <a:srgbClr val="262699"/>
                </a:solidFill>
                <a:latin typeface="Arial"/>
              </a:rPr>
              <a:t> entre acteurs de la santé mentale au niveau départemental :</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le lieu du dialogue départemental sur la place de chacun dans le parcours de santé et de vie, les modalités de coordination entre acteurs (sociaux, médico-sociaux, sanitaires), la définition de parcours de santé, etc.</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Coordonner et consolider les initiatives locales</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espace permanent de </a:t>
            </a:r>
            <a:r>
              <a:rPr b="1" lang="fr-FR" sz="1800" spc="-1" strike="noStrike">
                <a:solidFill>
                  <a:srgbClr val="262699"/>
                </a:solidFill>
                <a:latin typeface="Arial"/>
              </a:rPr>
              <a:t>dialogue entre ces acteurs et l’ARS</a:t>
            </a:r>
            <a:r>
              <a:rPr b="0" lang="fr-FR" sz="1800" spc="-1" strike="noStrike">
                <a:solidFill>
                  <a:srgbClr val="262699"/>
                </a:solidFill>
                <a:latin typeface="Arial"/>
              </a:rPr>
              <a:t> : travail sur les priorités en termes d’évolution et de développement de l’offre, etc.</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interlocuteur et un </a:t>
            </a:r>
            <a:r>
              <a:rPr b="1" lang="fr-FR" sz="1800" spc="-1" strike="noStrike">
                <a:solidFill>
                  <a:srgbClr val="262699"/>
                </a:solidFill>
                <a:latin typeface="Arial"/>
              </a:rPr>
              <a:t>relais local pour la commission analogue de la CRSA</a:t>
            </a:r>
            <a:r>
              <a:rPr b="0" lang="fr-FR" sz="1800" spc="-1" strike="noStrike">
                <a:solidFill>
                  <a:srgbClr val="262699"/>
                </a:solidFill>
                <a:latin typeface="Arial"/>
              </a:rPr>
              <a:t>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0"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99"/>
                </a:solidFill>
                <a:latin typeface="Arial"/>
              </a:rPr>
              <a:t>Proposition de composition de la commission permanente (à débatt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u Bureau de la Conférence de Territoi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a Délégation Territoriale de l’AR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sychiatrie général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édopsychiatri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des structures médico-sociales pour personnes handicapé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EHPAD</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associations d’usagers ou de famill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e Département (au titre de ses compétences de solidarité)</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Union des Mair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professionnels libéraux de santé</a:t>
            </a: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3"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représentant assure le relais d’information ascendante / descendante sur l’activité de la commission auprès des catégories d’acteurs qu’il représent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catégorie d’acteur assure la continuité de sa représentation (suppléance, remplacement).</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Les candidatures sont ouvertes à compter d’aujourd’hui, au-delà des présents. Le Bureau de la Conférence de Territoire arbitrera en cas de candidatures multiples, organisera la première rencontre et assurera l’articulation avec la Conférence de Territoir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 </a:t>
            </a:r>
            <a:r>
              <a:rPr b="1" lang="fr-FR" sz="1800" spc="-1" strike="noStrike">
                <a:solidFill>
                  <a:srgbClr val="262699"/>
                </a:solidFill>
                <a:latin typeface="Arial"/>
              </a:rPr>
              <a:t>La Commission déterminera son rythme d’activité et son fonctionnement.</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ZARD, Nathalie</cp:lastModifiedBy>
  <cp:lastPrinted>2014-10-03T13:36:38Z</cp:lastPrinted>
  <dcterms:modified xsi:type="dcterms:W3CDTF">2014-10-06T15:15:11Z</dcterms:modified>
  <cp:revision>428</cp:revision>
  <dc:subject/>
  <dc:title>Présentation PowerPoint</dc:title>
</cp:coreProperties>
</file>